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739F0-17AC-4711-9873-900D0B049CAA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C99F8-C47A-4DCC-9879-16793201456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295A5-4863-4D3A-A44D-2CA5B4D547D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A8168-C938-4BEC-BF8D-01DF7880EE1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AF119-7138-4327-94A8-B0C617997D1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D73D8-A16A-492D-AAB0-EC834582C0A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26605-EDB3-425D-B719-AED6AF4EDE6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7FC5C-9D80-45F8-A930-9F99E2B8F22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CB798-E2CD-40A2-A258-CC9F8AE6DC4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68275-57B8-4CEE-9CEB-0F6C475445D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FE34C-628F-4654-9E43-5C0B98D14C5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B1E02-508A-4E60-96F8-519D920744B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2685C-845E-45A4-8C16-481BAF6646B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F9F7F-5EB5-456C-B41C-F02A6CF96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E2D40-FE97-4343-854F-FDD374FF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2AA1C-4D59-4DD7-923D-08026BFEFF0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86C46-995E-4BCD-92FB-D7C464437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4018-4EDB-4CC5-8F88-49DEFE4DE7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0B3A-99B4-4EC9-ABFF-9CBD6EC9D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783D-0763-468F-9E29-39B154390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5FC6-471B-485A-A00C-E3751B62C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D926-5313-4C8C-950C-2F76FF5EE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DDDC1-6FA0-4AD0-AC3A-F59332F70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8E93-566B-4822-ADC1-7ECAF1E73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AE92-5265-41CE-A4C2-3D3E7BE37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B11B-0227-49CD-81E4-E327987DD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2013-1AB5-4E05-87EF-A442A460C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E96E-BC11-470C-8B12-982A2F590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84C1-9CF0-4EC1-A118-B9E3CC1A3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D12B-DF5C-4B17-89D3-306843202D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36DD3-15C5-4448-A3A0-9E1F99457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B47D4-9BD2-46CB-8C69-AFB059C9A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670E3-E082-4E82-BD78-200247050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B0E8F-A183-4BBA-94B2-66F9F2CE9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8E35A-1681-4C00-94F9-7B92757B8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3D324-4F59-4853-AFA4-4ED3F0E3F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505320" y="6576840"/>
            <a:ext cx="213336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ECDD1-EB1C-4A68-81DB-AAE1B3B33B32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Num" idx="3"/>
          </p:nvPr>
        </p:nvSpPr>
        <p:spPr>
          <a:xfrm>
            <a:off x="3634920" y="6530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E5E87-2533-45D4-BA35-8286F352B125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7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治疗癫痫药和惊厥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矩形 2"/>
          <p:cNvSpPr/>
          <p:nvPr/>
        </p:nvSpPr>
        <p:spPr>
          <a:xfrm>
            <a:off x="105444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疗监护须知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228600" y="2349360"/>
            <a:ext cx="868680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苯妥英钠的有效血药浓度为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10~20 μg/ml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，由于血药浓度个体差异较大，易引起蓄积，应在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临床药物监测下给药，注意剂量的个体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癫痫是慢性疾病，需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长期甚至终身用药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治疗过程中切忌突然停药或更换其他药物；必须换药时，应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采取逐步过渡的方式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苯妥英钠用药后可出现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红色尿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，应预先告知患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妥英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ytoin sodiu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31357-1ECE-4201-B16A-4532E55344D5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矩形 2"/>
          <p:cNvSpPr/>
          <p:nvPr/>
        </p:nvSpPr>
        <p:spPr>
          <a:xfrm>
            <a:off x="105444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物相互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228600" y="2349360"/>
            <a:ext cx="868680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苯妥英钠是肝药酶诱导剂，可使皮质激素、洋地黄类和避孕药等的代谢加快而降低药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苯巴比妥、卡马西平、安定和乙醇等能够通过肝药酶诱导作用加速苯妥英钠的代谢，降低血药浓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磺胺类、异烟肼、水杨酸类和口服抗凝药等可与苯妥英钠竞争血浆蛋白结合部位，增加游离型血药浓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妥英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ytoin sodiu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DC7BF-8981-4C56-A35B-FF6C1F1E367A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卡马西平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carbamazepine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矩形 4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理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矩形 5"/>
          <p:cNvSpPr/>
          <p:nvPr/>
        </p:nvSpPr>
        <p:spPr>
          <a:xfrm>
            <a:off x="395280" y="21337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作用与苯妥英钠相似，能阻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通道，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抑制癫痫病灶及其周围神经元的异常放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矩形 6"/>
          <p:cNvSpPr/>
          <p:nvPr/>
        </p:nvSpPr>
        <p:spPr>
          <a:xfrm>
            <a:off x="747000" y="3716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395280" y="4221000"/>
            <a:ext cx="85201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较苯妥英钠抗癫痫作用更为广谱，对精神运动性发作最有效，也可用于对其他药无效的强直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阵挛性发作及部分性发作，对三叉神经痛的疗效优于苯妥英钠。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灯片编号占位符 3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ABAC6-D588-4439-BCB8-D0D70C68631F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卡马西平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carbamazepine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矩形 8"/>
          <p:cNvSpPr/>
          <p:nvPr/>
        </p:nvSpPr>
        <p:spPr>
          <a:xfrm>
            <a:off x="1243440" y="14335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体内过程与用法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214200" y="1989000"/>
            <a:ext cx="868680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口服吸收缓慢且不规则，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6~12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小时血药浓度达高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有效血药浓度为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4~10 μg/ml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用药时从小剂量开始，逐渐增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矩形 12"/>
          <p:cNvSpPr/>
          <p:nvPr/>
        </p:nvSpPr>
        <p:spPr>
          <a:xfrm>
            <a:off x="801720" y="390384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235080" y="4424400"/>
            <a:ext cx="86868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用药早期可出现头昏、眩晕、恶心、呕吐和共济失调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可见皮疹和心血管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偶见粒细胞减少、血小板减少和再生障碍性贫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2D3DE-9172-4D5E-B17B-7E89D51C8E58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卡马西平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carbamazepine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矩形 6"/>
          <p:cNvSpPr/>
          <p:nvPr/>
        </p:nvSpPr>
        <p:spPr>
          <a:xfrm>
            <a:off x="1054440" y="1700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疗监护须知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228600" y="2276640"/>
            <a:ext cx="89154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因卡马西平用药初期可出现神经精神症状，故需加强护理，尤其注意观察老年人的临床表现。用药期间定期监测血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矩形 9"/>
          <p:cNvSpPr/>
          <p:nvPr/>
        </p:nvSpPr>
        <p:spPr>
          <a:xfrm>
            <a:off x="1054440" y="37591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物相互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200160" y="4268880"/>
            <a:ext cx="8685000" cy="15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苯巴比妥、苯妥英钠、扑米酮加快卡马西平代谢，使其血药浓度降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2360C-9CE4-4CAB-8978-8E6C7686B79D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巴比妥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obarbital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矩形 8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理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矩形 10"/>
          <p:cNvSpPr/>
          <p:nvPr/>
        </p:nvSpPr>
        <p:spPr>
          <a:xfrm>
            <a:off x="395280" y="21337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第一个用于抗癫痫的有机化合物。既能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抑制病灶神经元的异常放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亦可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抑制异常放电的扩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矩形 12"/>
          <p:cNvSpPr/>
          <p:nvPr/>
        </p:nvSpPr>
        <p:spPr>
          <a:xfrm>
            <a:off x="747000" y="3716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395280" y="4221000"/>
            <a:ext cx="85201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具有镇静、催眠和抗惊厥作用，临床上主要用于治疗癫痫大发作及癫痫持续状态，对单纯局限性发作及强直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阵挛性发作也有效，对复杂部分性发作及小发作往往无效。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05469-7511-44B2-8D45-994D8D073520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8704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苯巴比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phenobarbital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矩形 6"/>
          <p:cNvSpPr/>
          <p:nvPr/>
        </p:nvSpPr>
        <p:spPr>
          <a:xfrm>
            <a:off x="781920" y="14335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214200" y="1989000"/>
            <a:ext cx="868680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常见嗜睡、眩晕和共济失调等神经毒性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可致巨幼红细胞性贫血、白细胞减少和血小板减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少数患者有皮疹、黄疸、高热、粒细胞缺乏等过敏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矩形 9"/>
          <p:cNvSpPr/>
          <p:nvPr/>
        </p:nvSpPr>
        <p:spPr>
          <a:xfrm>
            <a:off x="1143360" y="390384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疗监护须知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235080" y="4424400"/>
            <a:ext cx="86868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本药为镇静催眠药物。用药初期最常见反应为嗜睡、精神萎靡等；偶见中枢兴奋作用，多见于儿童和老年人，故需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加强护理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67ED8-C6B5-4576-9247-4E71B7F9163E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抗癫痫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矩形 2"/>
          <p:cNvSpPr/>
          <p:nvPr/>
        </p:nvSpPr>
        <p:spPr>
          <a:xfrm>
            <a:off x="568440" y="1628640"/>
            <a:ext cx="24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扑米酮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rimidon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矩形 3"/>
          <p:cNvSpPr/>
          <p:nvPr/>
        </p:nvSpPr>
        <p:spPr>
          <a:xfrm>
            <a:off x="835200" y="2205000"/>
            <a:ext cx="79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主要用于强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阵挛性发作、单纯及复杂部分性发作，与苯妥英钠和卡马西平合用具有协同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矩形 8"/>
          <p:cNvSpPr/>
          <p:nvPr/>
        </p:nvSpPr>
        <p:spPr>
          <a:xfrm>
            <a:off x="570240" y="3284640"/>
            <a:ext cx="28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乙琥胺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thosuximid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矩形 10"/>
          <p:cNvSpPr/>
          <p:nvPr/>
        </p:nvSpPr>
        <p:spPr>
          <a:xfrm>
            <a:off x="835200" y="3860640"/>
            <a:ext cx="79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主要用于小发作，尤其是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失神小发作，是临床治疗的首选药物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对肌阵挛及婴儿痉挛也有一定效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矩形 12"/>
          <p:cNvSpPr/>
          <p:nvPr/>
        </p:nvSpPr>
        <p:spPr>
          <a:xfrm>
            <a:off x="633600" y="4941720"/>
            <a:ext cx="353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丙戊酸钠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odium valproat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矩形 13"/>
          <p:cNvSpPr/>
          <p:nvPr/>
        </p:nvSpPr>
        <p:spPr>
          <a:xfrm>
            <a:off x="835200" y="5516640"/>
            <a:ext cx="79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广谱抗癫痫药物，对各型癫痫均有不同程度的疗效，尤其对大发作、局限性发作、失神发作和肌阵挛发作效果较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2CA21-F5F4-4C89-B86F-CBD1FB377756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抗癫痫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矩形 2"/>
          <p:cNvSpPr/>
          <p:nvPr/>
        </p:nvSpPr>
        <p:spPr>
          <a:xfrm>
            <a:off x="696600" y="1628640"/>
            <a:ext cx="36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苯二氮䓬类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nzodiazepine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324000" y="2276640"/>
            <a:ext cx="86868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地西泮（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iazepam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）：控制癫痫持续状态的首选药物。静脉注射见效快，安全性较大。由于静脉注射维持药效时间不长，应配合肌注苯巴比妥维持疗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硝西泮（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nitrazepam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）：对肌阵挛性癫痫、不典型小发作和婴儿痉挛有较好疗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氯硝西泮（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clonazepam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）：具有高度脂溶性，宜透过血脑屏障。对各型癫痫均有效，尤其是失神小发作、婴儿痉挛、肌阵挛发作为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灯片编号占位符 6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66455-DCD2-4232-B816-47F9860AE46E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癫痫药物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270000" y="1413000"/>
            <a:ext cx="864216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依据发作类型选择药物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发作类型诊断不准，选药不当是治疗失败的重要原因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用药方案的制定和执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①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尽量采用单一药物治疗，以减少药物相互作用、减少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AD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并易于评定疗效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②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从小剂量开始，逐渐增量。一般抗癫痫药物的治疗指数较低，临床应配合血药浓度监测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③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换药原则：新药加量、老药减量交替过渡撤换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④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停药原则：逐渐减量，剂量越大、撤药时间越长，一般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年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密切注意不良反应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定期随访，应测查血、肝、肾功能以及神经系统症状和认知功能，判定药效和有无毒性反应，作出个体化剂量调整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孕妇用药问题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药物致畸问题、癫痫反复发作对胎儿的影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D64CF-A747-407A-9DFB-ED8A03ABB371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304920" y="137160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掌握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苯妥英钠抗癫痫的作用、作用机制、临床应用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熟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抗癫痫药注意事项和常用抗癫痫药的选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了解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癫痫的主要临床分型与临床特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02F63-1BEE-4223-A957-B94963A537EF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癫痫分型与药物选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108000" y="1195560"/>
          <a:ext cx="8915400" cy="5329080"/>
        </p:xfrm>
        <a:graphic>
          <a:graphicData uri="http://schemas.openxmlformats.org/drawingml/2006/table">
            <a:tbl>
              <a:tblPr/>
              <a:tblGrid>
                <a:gridCol w="1832040"/>
                <a:gridCol w="2049480"/>
                <a:gridCol w="2624040"/>
                <a:gridCol w="240984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大  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亚  类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具体表现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选择药物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00404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局限性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局部开始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单纯部分性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局灶性癫痫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运动性发作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2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感觉性发作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3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植物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N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性发作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4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精神性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卡马西平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苯妥英钠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苯巴比妥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扑米酮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丙戊酸钠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苯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31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复杂部分性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颞叶癫痫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1 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意识障碍起病者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精神运动性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2 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继发于单纯部分性发作的意识障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同上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21920"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全身性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非局部开始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强直阵挛大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同上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失神小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乙琥胺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 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苯二氮卓类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丙戊酸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肌阵挛发作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无张力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丙戊酸钠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苯二氮卓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9672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未能分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婴儿痉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ACTH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糖皮质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9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癫痫持续状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地西泮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巴比妥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8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33499-3E2D-4480-BB8F-C2F17E7EB0EC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抗惊厥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矩形 2"/>
          <p:cNvSpPr/>
          <p:nvPr/>
        </p:nvSpPr>
        <p:spPr>
          <a:xfrm>
            <a:off x="2823840" y="1035000"/>
            <a:ext cx="36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硫酸镁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agnesium sulfate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矩形 4"/>
          <p:cNvSpPr/>
          <p:nvPr/>
        </p:nvSpPr>
        <p:spPr>
          <a:xfrm>
            <a:off x="761400" y="17226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理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矩形 5"/>
          <p:cNvSpPr/>
          <p:nvPr/>
        </p:nvSpPr>
        <p:spPr>
          <a:xfrm>
            <a:off x="179280" y="2227320"/>
            <a:ext cx="87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钙离子化学性质相近，可竞争性的拮抗钙离子结合位点，从而抑制神经化学传递和骨骼肌收缩中钙离子的作用，也可以直接作用于中枢，引起感觉和意识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矩形 6"/>
          <p:cNvSpPr/>
          <p:nvPr/>
        </p:nvSpPr>
        <p:spPr>
          <a:xfrm>
            <a:off x="761400" y="39546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196920" y="4549680"/>
            <a:ext cx="85201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主要用于缓解子痫、破伤风等惊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高浓度镁离子具有心肌抑制和扩张血管的作用，故也可用于高血压危象。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灯片编号占位符 8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EDFAB-C202-4CAA-B455-89620B177AF5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抗惊厥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矩形 2"/>
          <p:cNvSpPr/>
          <p:nvPr/>
        </p:nvSpPr>
        <p:spPr>
          <a:xfrm>
            <a:off x="2823840" y="1035000"/>
            <a:ext cx="36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硫酸镁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agnesium sulfate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矩形 4"/>
          <p:cNvSpPr/>
          <p:nvPr/>
        </p:nvSpPr>
        <p:spPr>
          <a:xfrm>
            <a:off x="1376640" y="17226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和禁忌证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矩形 5"/>
          <p:cNvSpPr/>
          <p:nvPr/>
        </p:nvSpPr>
        <p:spPr>
          <a:xfrm>
            <a:off x="179280" y="22273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钙离子化学性质相近，可竞争性的拮抗钙离子结合位点，从而抑制神经化学传递和骨骼肌收缩中钙离子的作用，也可以直接作用于中枢，引起感觉和意识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矩形 6"/>
          <p:cNvSpPr/>
          <p:nvPr/>
        </p:nvSpPr>
        <p:spPr>
          <a:xfrm>
            <a:off x="761400" y="39546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196920" y="4549680"/>
            <a:ext cx="85201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主要用于缓解子痫、破伤风等惊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高浓度镁离子具有心肌抑制和扩张血管的作用，故也可用于高血压危象。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控制好用药剂量、浓度及滴注速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灯片编号占位符 3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A7D6A-A697-4CB4-BC94-B73FCEC78E1A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圆角矩形 3"/>
          <p:cNvSpPr/>
          <p:nvPr/>
        </p:nvSpPr>
        <p:spPr>
          <a:xfrm>
            <a:off x="395280" y="1488960"/>
            <a:ext cx="8319960" cy="351468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患者，女性，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16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岁，高中生，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天前患者于学校上课时突然大叫一声，四肢抽搐，双眼上翻且口吐白沫，急诊入院。入院后查脑电图示“癫痫样放电”，初步诊断为“癫痫大发作”，医嘱给予苯妥英钠，口服，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Bid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。抽搐未能控制，住院期间癫痫发作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次。于入院后第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11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天出现高热，伴全身性皮疹。医嘱继续给予苯妥英钠（剂量同前），加服苯巴比妥。抽搐得到有效控制。住院后，患者逐渐认识到癫痫是一种慢性病、需要长期服药治疗、症状控制不好会再发作，因此产生严重的心理负担，变得内向、寡言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剪去单角的矩形 6"/>
          <p:cNvSpPr/>
          <p:nvPr/>
        </p:nvSpPr>
        <p:spPr>
          <a:xfrm>
            <a:off x="428760" y="5157720"/>
            <a:ext cx="8286480" cy="12956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（</a:t>
            </a:r>
            <a:r>
              <a:rPr b="0" lang="en-US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1</a:t>
            </a: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）苯妥英钠治疗癫痫的作用机制及其不良反应。加用苯巴比妥的原因及其注意事项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（</a:t>
            </a:r>
            <a:r>
              <a:rPr b="0" lang="en-US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2</a:t>
            </a: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）针对该患者的疾病和心理状态，药疗监护应注意的事项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灯片编号占位符 1"/>
          <p:cNvSpPr/>
          <p:nvPr/>
        </p:nvSpPr>
        <p:spPr>
          <a:xfrm>
            <a:off x="3505320" y="6576840"/>
            <a:ext cx="213336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2E650-D79A-42DB-86AA-46B246E31512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癫痫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2987640" y="868320"/>
            <a:ext cx="33130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癫痫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(Epilepsy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324000" y="2305080"/>
            <a:ext cx="3822480" cy="360036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3"/>
          <p:cNvSpPr/>
          <p:nvPr/>
        </p:nvSpPr>
        <p:spPr>
          <a:xfrm>
            <a:off x="4348080" y="1916280"/>
            <a:ext cx="45673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类由于脑局部病灶神经元异常高频放电、并向周围组织扩散引起的大脑功能失调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具有突发性、短暂性和反复发作的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可表现为运动、感觉、意识和自主神经功能等多种异常，并伴有脑电图改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灯片编号占位符 8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ED595-8B5F-43D8-85B6-41A3413A8801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癫痫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2987640" y="868320"/>
            <a:ext cx="33130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简单分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250920" y="1916280"/>
            <a:ext cx="84978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部分性发作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包括单纯部分性发作（局限性发作，不伴有意识障碍）和精神运动性发作（复杂部分性发作，伴有意识障碍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全面性发作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包括失神发作（小发作，主要以意识障碍起病）和强直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阵挛性发作（大发作，以意识障碍和全身抽搐为主要特征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8F574-C484-4E38-A42D-B5CD3085D65E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癫痫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2987640" y="868320"/>
            <a:ext cx="33130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药物治疗环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179280" y="1989000"/>
            <a:ext cx="8686800" cy="46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抑制病灶神经元过度放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作用于病灶周围正常神经组织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遏制异常放电的扩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苯妥因钠、卡马西平、乙琥胺等干扰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Na</a:t>
            </a:r>
            <a:r>
              <a:rPr b="0" lang="en-US" sz="2000" spc="-1" strike="noStrike" baseline="30000">
                <a:solidFill>
                  <a:srgbClr val="0d0d0d"/>
                </a:solidFill>
                <a:latin typeface="Times New Roman"/>
                <a:ea typeface="黑体"/>
              </a:rPr>
              <a:t>+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、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Ca</a:t>
            </a:r>
            <a:r>
              <a:rPr b="0" lang="en-US" sz="2000" spc="-1" strike="noStrike" baseline="30000">
                <a:solidFill>
                  <a:srgbClr val="0d0d0d"/>
                </a:solidFill>
                <a:latin typeface="Times New Roman"/>
                <a:ea typeface="黑体"/>
              </a:rPr>
              <a:t>2+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、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K</a:t>
            </a:r>
            <a:r>
              <a:rPr b="0" lang="en-US" sz="2000" spc="-1" strike="noStrike" baseline="30000">
                <a:solidFill>
                  <a:srgbClr val="0d0d0d"/>
                </a:solidFill>
                <a:latin typeface="Times New Roman"/>
                <a:ea typeface="黑体"/>
              </a:rPr>
              <a:t>+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等阳离子通道，膜稳定作用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增强脑内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γ-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氨基丁酸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(GABA)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介导的抑制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苯二氮卓类、苯巴比妥类增加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GABA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释放；丙戊酸等抑制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GABA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分解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抑制兴奋性递质（谷氨酸、天冬氨酸）的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AMPA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、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NMDA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受体的拮抗剂、托吡酯等减少兴奋性递质的释放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C644F-5E5A-4CF5-977C-C8E07141581B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妥英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ytoin sodiu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理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矩形 3"/>
          <p:cNvSpPr/>
          <p:nvPr/>
        </p:nvSpPr>
        <p:spPr>
          <a:xfrm>
            <a:off x="395280" y="213372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降低细胞膜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通透性，抑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内流，从而降低神经细胞细胞膜的兴奋性，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阻滞癫痫病灶异常放电向周围正常脑组织的扩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矩形 6"/>
          <p:cNvSpPr/>
          <p:nvPr/>
        </p:nvSpPr>
        <p:spPr>
          <a:xfrm>
            <a:off x="747000" y="3716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457200" y="4221000"/>
            <a:ext cx="84582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抗癫痫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：苯妥英钠是治疗强直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阵挛性发作（大发作）的首选药，对单纯部分发作、复杂部分发作均有效，对失神小发作无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治疗外周神经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抗心律失常（见第十七章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19E59-BE19-4100-9E4E-FE2E15C2B03F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体内过程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矩形 6"/>
          <p:cNvSpPr/>
          <p:nvPr/>
        </p:nvSpPr>
        <p:spPr>
          <a:xfrm>
            <a:off x="346680" y="36878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用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79280" y="2039760"/>
            <a:ext cx="868680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为碱性药，刺激性大，不宜肌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口服吸收慢而不规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高于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10 μg/ml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时，血浆</a:t>
            </a:r>
            <a:r>
              <a:rPr b="0" i="1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t</a:t>
            </a:r>
            <a:r>
              <a:rPr b="0" lang="en-US" sz="2400" spc="-1" strike="noStrike" baseline="-25000">
                <a:solidFill>
                  <a:srgbClr val="0d0d0d"/>
                </a:solidFill>
                <a:latin typeface="Times New Roman"/>
                <a:ea typeface="黑体"/>
              </a:rPr>
              <a:t>1/2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延至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20~60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小时，易引起蓄积中毒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矩形 4"/>
          <p:cNvSpPr/>
          <p:nvPr/>
        </p:nvSpPr>
        <p:spPr>
          <a:xfrm>
            <a:off x="219240" y="4221000"/>
            <a:ext cx="864684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从小剂量开始，逐渐增加剂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口服一般用量为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100~200 mg/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次，每日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2~3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次，不宜超过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400 mg/d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因其治疗量和中毒量接近，故容易出现中毒反应，需严密监测血药浓度，观察中毒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妥英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ytoin sodiu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灯片编号占位符 1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7D83F-BF6D-462D-BA94-9E714109C976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179280" y="2133720"/>
            <a:ext cx="86868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局部刺激：厌食、恶心、呕吐和腹痛等症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齿龈增生：长期应用可引起齿龈增生，多见于青少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神经系统反应：多见头晕，剂量过大引起中毒则可出现眼球震颤、复视、眩晕、共济失调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血液系统：巨幼红细胞性贫血，偶见粒细胞、血小板减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骨骼系统反应：低钙血症、佝偻病样改变和骨软化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可见皮疹、血小板减少、粒细胞缺乏、再生障碍性贫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其他：致畸胎，故孕妇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妥英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ytoin sodiu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D90FF-5870-44C3-83B3-8896FE412C51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1T10:30:32Z</dcterms:modified>
  <cp:revision>5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